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137C-87D7-4053-9658-03DD471BF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86F2-8293-4557-A218-FCF333BC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966D-731C-4CF7-A5A5-FD29CA37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17BB-253B-4E8F-BDC3-15DF979C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8478-25F2-4F48-8A4F-059CF83C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A7A8-C4A9-4DEB-ABA2-B355997E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872A-2A5B-4D49-A445-B6C057B5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B8AF-A4F4-4FE8-ADD5-E2CD5F27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2273-7EAB-450D-BA66-D4CC2909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91E7-8508-4A65-9D54-AEE0D8BA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53FE-D457-44F2-B94E-B1E7D865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FE16-489E-41F7-98C6-F9E2199B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8B46-1974-4064-8B72-ABC79BBE8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0.gif"/><Relationship Id="rId3" Type="http://schemas.openxmlformats.org/officeDocument/2006/relationships/image" Target="../media/image9.gif"/><Relationship Id="rId4" Type="http://schemas.openxmlformats.org/officeDocument/2006/relationships/image" Target="../media/image8.gif"/><Relationship Id="rId5" Type="http://schemas.openxmlformats.org/officeDocument/2006/relationships/image" Target="../media/image7.gif"/><Relationship Id="rId6" Type="http://schemas.openxmlformats.org/officeDocument/2006/relationships/image" Target="../media/image6.gif"/><Relationship Id="rId7" Type="http://schemas.openxmlformats.org/officeDocument/2006/relationships/image" Target="../media/image5.gif"/><Relationship Id="rId8" Type="http://schemas.openxmlformats.org/officeDocument/2006/relationships/image" Target="../media/image3.gif"/><Relationship Id="rId9" Type="http://schemas.openxmlformats.org/officeDocument/2006/relationships/image" Target="../media/image1.gif"/><Relationship Id="rId10" Type="http://schemas.openxmlformats.org/officeDocument/2006/relationships/image" Target="../media/image2.gif"/><Relationship Id="rId11" Type="http://schemas.openxmlformats.org/officeDocument/2006/relationships/image" Target="../media/image4.gif"/><Relationship Id="rId12" Type="http://schemas.openxmlformats.org/officeDocument/2006/relationships/image" Target="../media/image12.gif"/><Relationship Id="rId13" Type="http://schemas.openxmlformats.org/officeDocument/2006/relationships/image" Target="../media/image13.gif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3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2.gif"/><Relationship Id="rId6" Type="http://schemas.openxmlformats.org/officeDocument/2006/relationships/image" Target="../media/image8.gif"/><Relationship Id="rId7" Type="http://schemas.openxmlformats.org/officeDocument/2006/relationships/image" Target="../media/image10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0.gif"/><Relationship Id="rId3" Type="http://schemas.openxmlformats.org/officeDocument/2006/relationships/image" Target="../media/image9.gif"/><Relationship Id="rId4" Type="http://schemas.openxmlformats.org/officeDocument/2006/relationships/image" Target="../media/image8.gif"/><Relationship Id="rId5" Type="http://schemas.openxmlformats.org/officeDocument/2006/relationships/image" Target="../media/image6.gif"/><Relationship Id="rId6" Type="http://schemas.openxmlformats.org/officeDocument/2006/relationships/image" Target="../media/image5.gif"/><Relationship Id="rId7" Type="http://schemas.openxmlformats.org/officeDocument/2006/relationships/image" Target="../media/image3.gif"/><Relationship Id="rId8" Type="http://schemas.openxmlformats.org/officeDocument/2006/relationships/image" Target="../media/image1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12.gif"/><Relationship Id="rId12" Type="http://schemas.openxmlformats.org/officeDocument/2006/relationships/image" Target="../media/image13.gif"/><Relationship Id="rId1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0.gif"/><Relationship Id="rId3" Type="http://schemas.openxmlformats.org/officeDocument/2006/relationships/image" Target="../media/image9.gif"/><Relationship Id="rId4" Type="http://schemas.openxmlformats.org/officeDocument/2006/relationships/image" Target="../media/image8.gif"/><Relationship Id="rId5" Type="http://schemas.openxmlformats.org/officeDocument/2006/relationships/image" Target="../media/image7.gif"/><Relationship Id="rId6" Type="http://schemas.openxmlformats.org/officeDocument/2006/relationships/image" Target="../media/image6.gif"/><Relationship Id="rId7" Type="http://schemas.openxmlformats.org/officeDocument/2006/relationships/image" Target="../media/image5.gif"/><Relationship Id="rId8" Type="http://schemas.openxmlformats.org/officeDocument/2006/relationships/image" Target="../media/image3.gif"/><Relationship Id="rId9" Type="http://schemas.openxmlformats.org/officeDocument/2006/relationships/image" Target="../media/image1.gif"/><Relationship Id="rId10" Type="http://schemas.openxmlformats.org/officeDocument/2006/relationships/image" Target="../media/image2.gif"/><Relationship Id="rId11" Type="http://schemas.openxmlformats.org/officeDocument/2006/relationships/image" Target="../media/image12.gif"/><Relationship Id="rId12" Type="http://schemas.openxmlformats.org/officeDocument/2006/relationships/image" Target="../media/image13.gif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0.gif"/><Relationship Id="rId3" Type="http://schemas.openxmlformats.org/officeDocument/2006/relationships/image" Target="../media/image9.gif"/><Relationship Id="rId4" Type="http://schemas.openxmlformats.org/officeDocument/2006/relationships/image" Target="../media/image8.gif"/><Relationship Id="rId5" Type="http://schemas.openxmlformats.org/officeDocument/2006/relationships/image" Target="../media/image7.gif"/><Relationship Id="rId6" Type="http://schemas.openxmlformats.org/officeDocument/2006/relationships/image" Target="../media/image6.gif"/><Relationship Id="rId7" Type="http://schemas.openxmlformats.org/officeDocument/2006/relationships/image" Target="../media/image3.gif"/><Relationship Id="rId8" Type="http://schemas.openxmlformats.org/officeDocument/2006/relationships/image" Target="../media/image1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12.gif"/><Relationship Id="rId12" Type="http://schemas.openxmlformats.org/officeDocument/2006/relationships/image" Target="../media/image13.gif"/><Relationship Id="rId1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9.gif"/><Relationship Id="rId3" Type="http://schemas.openxmlformats.org/officeDocument/2006/relationships/image" Target="../media/image8.gif"/><Relationship Id="rId4" Type="http://schemas.openxmlformats.org/officeDocument/2006/relationships/image" Target="../media/image7.gif"/><Relationship Id="rId5" Type="http://schemas.openxmlformats.org/officeDocument/2006/relationships/image" Target="../media/image6.gif"/><Relationship Id="rId6" Type="http://schemas.openxmlformats.org/officeDocument/2006/relationships/image" Target="../media/image5.gif"/><Relationship Id="rId7" Type="http://schemas.openxmlformats.org/officeDocument/2006/relationships/image" Target="../media/image3.gif"/><Relationship Id="rId8" Type="http://schemas.openxmlformats.org/officeDocument/2006/relationships/image" Target="../media/image1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12.gif"/><Relationship Id="rId12" Type="http://schemas.openxmlformats.org/officeDocument/2006/relationships/image" Target="../media/image13.gif"/><Relationship Id="rId1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0.gif"/><Relationship Id="rId3" Type="http://schemas.openxmlformats.org/officeDocument/2006/relationships/image" Target="../media/image9.gif"/><Relationship Id="rId4" Type="http://schemas.openxmlformats.org/officeDocument/2006/relationships/image" Target="../media/image8.gif"/><Relationship Id="rId5" Type="http://schemas.openxmlformats.org/officeDocument/2006/relationships/image" Target="../media/image7.gif"/><Relationship Id="rId6" Type="http://schemas.openxmlformats.org/officeDocument/2006/relationships/image" Target="../media/image6.gif"/><Relationship Id="rId7" Type="http://schemas.openxmlformats.org/officeDocument/2006/relationships/image" Target="../media/image5.gif"/><Relationship Id="rId8" Type="http://schemas.openxmlformats.org/officeDocument/2006/relationships/image" Target="../media/image3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12.gif"/><Relationship Id="rId12" Type="http://schemas.openxmlformats.org/officeDocument/2006/relationships/image" Target="../media/image13.gif"/><Relationship Id="rId1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0.gif"/><Relationship Id="rId3" Type="http://schemas.openxmlformats.org/officeDocument/2006/relationships/image" Target="../media/image9.gif"/><Relationship Id="rId4" Type="http://schemas.openxmlformats.org/officeDocument/2006/relationships/image" Target="../media/image7.gif"/><Relationship Id="rId5" Type="http://schemas.openxmlformats.org/officeDocument/2006/relationships/image" Target="../media/image6.gif"/><Relationship Id="rId6" Type="http://schemas.openxmlformats.org/officeDocument/2006/relationships/image" Target="../media/image5.gif"/><Relationship Id="rId7" Type="http://schemas.openxmlformats.org/officeDocument/2006/relationships/image" Target="../media/image3.gif"/><Relationship Id="rId8" Type="http://schemas.openxmlformats.org/officeDocument/2006/relationships/image" Target="../media/image1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12.gif"/><Relationship Id="rId12" Type="http://schemas.openxmlformats.org/officeDocument/2006/relationships/image" Target="../media/image13.gif"/><Relationship Id="rId1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0.gif"/><Relationship Id="rId3" Type="http://schemas.openxmlformats.org/officeDocument/2006/relationships/image" Target="../media/image9.gif"/><Relationship Id="rId4" Type="http://schemas.openxmlformats.org/officeDocument/2006/relationships/image" Target="../media/image8.gif"/><Relationship Id="rId5" Type="http://schemas.openxmlformats.org/officeDocument/2006/relationships/image" Target="../media/image7.gif"/><Relationship Id="rId6" Type="http://schemas.openxmlformats.org/officeDocument/2006/relationships/image" Target="../media/image6.gif"/><Relationship Id="rId7" Type="http://schemas.openxmlformats.org/officeDocument/2006/relationships/image" Target="../media/image5.gif"/><Relationship Id="rId8" Type="http://schemas.openxmlformats.org/officeDocument/2006/relationships/image" Target="../media/image3.gif"/><Relationship Id="rId9" Type="http://schemas.openxmlformats.org/officeDocument/2006/relationships/image" Target="../media/image1.gif"/><Relationship Id="rId10" Type="http://schemas.openxmlformats.org/officeDocument/2006/relationships/image" Target="../media/image2.gif"/><Relationship Id="rId11" Type="http://schemas.openxmlformats.org/officeDocument/2006/relationships/image" Target="../media/image4.gif"/><Relationship Id="rId12" Type="http://schemas.openxmlformats.org/officeDocument/2006/relationships/image" Target="../media/image12.gif"/><Relationship Id="rId13" Type="http://schemas.openxmlformats.org/officeDocument/2006/relationships/image" Target="../media/image13.gif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557360"/>
            <a:ext cx="849780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1) to learn 14 parts of the bod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to play brain gy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spot the odd one ou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4) To revise how to say something hur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5) To get onto the games leaderboar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56000" y="450864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400" spc="-1" strike="noStrike">
                <a:solidFill>
                  <a:srgbClr val="000000"/>
                </a:solidFill>
                <a:latin typeface="Comic Sans MS"/>
              </a:rPr>
              <a:t>La cabez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59280" y="836640"/>
            <a:ext cx="29718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56000" y="450864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400" spc="-1" strike="noStrike">
                <a:solidFill>
                  <a:srgbClr val="000000"/>
                </a:solidFill>
                <a:latin typeface="Comic Sans MS"/>
              </a:rPr>
              <a:t>La mu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ñec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3927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56000" y="450864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400" spc="-1" strike="noStrike">
                <a:solidFill>
                  <a:srgbClr val="000000"/>
                </a:solidFill>
                <a:latin typeface="Comic Sans MS"/>
              </a:rPr>
              <a:t>El tobill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56000" y="704880"/>
            <a:ext cx="388764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56000" y="450864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400" spc="-1" strike="noStrike">
                <a:solidFill>
                  <a:srgbClr val="000000"/>
                </a:solidFill>
                <a:latin typeface="Comic Sans MS"/>
              </a:rPr>
              <a:t>La rodil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59280" y="566640"/>
            <a:ext cx="381780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56000" y="450864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400" spc="-1" strike="noStrike">
                <a:solidFill>
                  <a:srgbClr val="000000"/>
                </a:solidFill>
                <a:latin typeface="Comic Sans MS"/>
              </a:rPr>
              <a:t>El pech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87640" y="620640"/>
            <a:ext cx="342900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26920" y="765000"/>
            <a:ext cx="25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Comic Sans MS"/>
              </a:rPr>
              <a:t>Pero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2133720"/>
            <a:ext cx="4535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000" spc="-1" strike="noStrike">
                <a:solidFill>
                  <a:srgbClr val="000000"/>
                </a:solidFill>
                <a:latin typeface="Comic Sans MS"/>
              </a:rPr>
              <a:t>Me duelen las muel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4076640"/>
            <a:ext cx="4535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000" spc="-1" strike="noStrike">
                <a:solidFill>
                  <a:srgbClr val="000000"/>
                </a:solidFill>
                <a:latin typeface="Comic Sans MS"/>
              </a:rPr>
              <a:t>Me duelen los o</a:t>
            </a: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ído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292720" y="4005360"/>
            <a:ext cx="3333600" cy="2504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84720" y="836640"/>
            <a:ext cx="194796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Arial"/>
              </a:rPr>
              <a:t>Me duele / Me duele</a:t>
            </a:r>
            <a:r>
              <a:rPr b="0" lang="cy-GB" sz="4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164360" y="4653000"/>
            <a:ext cx="1979640" cy="1965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435640" y="4653000"/>
            <a:ext cx="2090520" cy="1801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132000" y="4365720"/>
            <a:ext cx="2159280" cy="1917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395280" y="4797360"/>
            <a:ext cx="2125800" cy="1474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7072200" y="2708280"/>
            <a:ext cx="1695600" cy="1913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5580000" y="2349360"/>
            <a:ext cx="1163880" cy="21099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4140360" y="2421000"/>
            <a:ext cx="1603080" cy="2182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395280" y="2708280"/>
            <a:ext cx="1943280" cy="1942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9"/>
          <a:stretch/>
        </p:blipFill>
        <p:spPr>
          <a:xfrm>
            <a:off x="6732720" y="1197000"/>
            <a:ext cx="1944720" cy="1511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0"/>
          <a:stretch/>
        </p:blipFill>
        <p:spPr>
          <a:xfrm>
            <a:off x="179280" y="1125360"/>
            <a:ext cx="2232000" cy="1543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1"/>
          <a:stretch/>
        </p:blipFill>
        <p:spPr>
          <a:xfrm>
            <a:off x="2556000" y="2421000"/>
            <a:ext cx="1563480" cy="2181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2"/>
          <a:stretch/>
        </p:blipFill>
        <p:spPr>
          <a:xfrm>
            <a:off x="4859280" y="1197000"/>
            <a:ext cx="1800360" cy="1352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3"/>
          <a:stretch/>
        </p:blipFill>
        <p:spPr>
          <a:xfrm>
            <a:off x="2916360" y="1197000"/>
            <a:ext cx="10825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960800" y="22860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46000" y="22860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89280" y="22860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03200" y="343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6480" y="343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8000" y="3430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os m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95640" y="234936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60880" y="127008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40360" y="2421000"/>
            <a:ext cx="457200" cy="571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17600" y="1270080"/>
            <a:ext cx="457200" cy="571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95640" y="450864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95640" y="342900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11640" y="458136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40360" y="350028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932360" y="4365720"/>
            <a:ext cx="1295280" cy="1150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148360" y="3141720"/>
            <a:ext cx="796680" cy="100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003640" y="2060640"/>
            <a:ext cx="935280" cy="934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003640" y="907920"/>
            <a:ext cx="790560" cy="1101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611280" y="1052640"/>
            <a:ext cx="1296720" cy="896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684360" y="2133720"/>
            <a:ext cx="1296720" cy="900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611280" y="3213000"/>
            <a:ext cx="1008000" cy="868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826920" y="4365720"/>
            <a:ext cx="64800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Arial"/>
              </a:rPr>
              <a:t>Me duele / Me duele</a:t>
            </a:r>
            <a:r>
              <a:rPr b="0" lang="cy-GB" sz="4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164360" y="4653000"/>
            <a:ext cx="1979640" cy="1965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435640" y="4653000"/>
            <a:ext cx="2090520" cy="1801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132000" y="4365720"/>
            <a:ext cx="2159280" cy="1917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395280" y="4797360"/>
            <a:ext cx="2125800" cy="1474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5580000" y="2349360"/>
            <a:ext cx="1163880" cy="2109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4140360" y="2421000"/>
            <a:ext cx="1603080" cy="2182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395280" y="2708280"/>
            <a:ext cx="1943280" cy="1942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6732720" y="1197000"/>
            <a:ext cx="1944720" cy="1511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179280" y="1125360"/>
            <a:ext cx="2232000" cy="1543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0"/>
          <a:stretch/>
        </p:blipFill>
        <p:spPr>
          <a:xfrm>
            <a:off x="2556000" y="2421000"/>
            <a:ext cx="1563480" cy="2181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1"/>
          <a:stretch/>
        </p:blipFill>
        <p:spPr>
          <a:xfrm>
            <a:off x="4859280" y="1197000"/>
            <a:ext cx="1800360" cy="1352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2"/>
          <a:stretch/>
        </p:blipFill>
        <p:spPr>
          <a:xfrm>
            <a:off x="2916360" y="1197000"/>
            <a:ext cx="10825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Arial"/>
              </a:rPr>
              <a:t>Me duele / Me duele</a:t>
            </a:r>
            <a:r>
              <a:rPr b="0" lang="cy-GB" sz="4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164360" y="4653000"/>
            <a:ext cx="1979640" cy="1965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435640" y="4653000"/>
            <a:ext cx="2090520" cy="1801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132000" y="4365720"/>
            <a:ext cx="2159280" cy="1917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395280" y="4797360"/>
            <a:ext cx="2125800" cy="1474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7072200" y="2708280"/>
            <a:ext cx="1695600" cy="19130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5580000" y="2349360"/>
            <a:ext cx="1163880" cy="2109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4140360" y="2421000"/>
            <a:ext cx="1603080" cy="2182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395280" y="2708280"/>
            <a:ext cx="1943280" cy="1942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9"/>
          <a:stretch/>
        </p:blipFill>
        <p:spPr>
          <a:xfrm>
            <a:off x="6732720" y="1197000"/>
            <a:ext cx="1944720" cy="151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0"/>
          <a:stretch/>
        </p:blipFill>
        <p:spPr>
          <a:xfrm>
            <a:off x="179280" y="1125360"/>
            <a:ext cx="2232000" cy="1543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1"/>
          <a:stretch/>
        </p:blipFill>
        <p:spPr>
          <a:xfrm>
            <a:off x="4859280" y="1197000"/>
            <a:ext cx="1800360" cy="1352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2"/>
          <a:stretch/>
        </p:blipFill>
        <p:spPr>
          <a:xfrm>
            <a:off x="2916360" y="1197000"/>
            <a:ext cx="10825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cuer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Arial"/>
              </a:rPr>
              <a:t>Me duele / Me duele</a:t>
            </a:r>
            <a:r>
              <a:rPr b="0" lang="cy-GB" sz="4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164360" y="4653000"/>
            <a:ext cx="1979640" cy="1965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435640" y="4653000"/>
            <a:ext cx="2090520" cy="1801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132000" y="4365720"/>
            <a:ext cx="2159280" cy="1917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395280" y="4797360"/>
            <a:ext cx="2125800" cy="1474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7072200" y="2708280"/>
            <a:ext cx="1695600" cy="1913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5580000" y="2349360"/>
            <a:ext cx="1163880" cy="2109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7"/>
          <a:stretch/>
        </p:blipFill>
        <p:spPr>
          <a:xfrm>
            <a:off x="395280" y="2708280"/>
            <a:ext cx="1943280" cy="1942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8"/>
          <a:stretch/>
        </p:blipFill>
        <p:spPr>
          <a:xfrm>
            <a:off x="6732720" y="1197000"/>
            <a:ext cx="1944720" cy="1511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9"/>
          <a:stretch/>
        </p:blipFill>
        <p:spPr>
          <a:xfrm>
            <a:off x="179280" y="1125360"/>
            <a:ext cx="2232000" cy="15433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0"/>
          <a:stretch/>
        </p:blipFill>
        <p:spPr>
          <a:xfrm>
            <a:off x="2556000" y="2421000"/>
            <a:ext cx="1563480" cy="21812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1"/>
          <a:stretch/>
        </p:blipFill>
        <p:spPr>
          <a:xfrm>
            <a:off x="4859280" y="1197000"/>
            <a:ext cx="1800360" cy="1352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2"/>
          <a:stretch/>
        </p:blipFill>
        <p:spPr>
          <a:xfrm>
            <a:off x="2916360" y="1197000"/>
            <a:ext cx="10825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Arial"/>
              </a:rPr>
              <a:t>Me duele / Me duele</a:t>
            </a:r>
            <a:r>
              <a:rPr b="0" lang="cy-GB" sz="4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435640" y="4653000"/>
            <a:ext cx="2090520" cy="1801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2159280" cy="1917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95280" y="4797360"/>
            <a:ext cx="2125800" cy="1474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7072200" y="2708280"/>
            <a:ext cx="1695600" cy="19130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5580000" y="2349360"/>
            <a:ext cx="1163880" cy="2109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4140360" y="2421000"/>
            <a:ext cx="1603080" cy="21826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7"/>
          <a:stretch/>
        </p:blipFill>
        <p:spPr>
          <a:xfrm>
            <a:off x="395280" y="2708280"/>
            <a:ext cx="1943280" cy="1942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8"/>
          <a:stretch/>
        </p:blipFill>
        <p:spPr>
          <a:xfrm>
            <a:off x="6732720" y="1197000"/>
            <a:ext cx="1944720" cy="1511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9"/>
          <a:stretch/>
        </p:blipFill>
        <p:spPr>
          <a:xfrm>
            <a:off x="179280" y="1125360"/>
            <a:ext cx="2232000" cy="15433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0"/>
          <a:stretch/>
        </p:blipFill>
        <p:spPr>
          <a:xfrm>
            <a:off x="2556000" y="2421000"/>
            <a:ext cx="1563480" cy="21812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4859280" y="1197000"/>
            <a:ext cx="1800360" cy="13525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2"/>
          <a:stretch/>
        </p:blipFill>
        <p:spPr>
          <a:xfrm>
            <a:off x="2916360" y="1197000"/>
            <a:ext cx="10825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Arial"/>
              </a:rPr>
              <a:t>Me duele / Me duele</a:t>
            </a:r>
            <a:r>
              <a:rPr b="0" lang="cy-GB" sz="4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164360" y="4653000"/>
            <a:ext cx="1979640" cy="19652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435640" y="4653000"/>
            <a:ext cx="2090520" cy="1801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132000" y="4365720"/>
            <a:ext cx="2159280" cy="1917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395280" y="4797360"/>
            <a:ext cx="2125800" cy="1474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7072200" y="2708280"/>
            <a:ext cx="1695600" cy="1913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5580000" y="2349360"/>
            <a:ext cx="1163880" cy="2109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4140360" y="2421000"/>
            <a:ext cx="1603080" cy="2182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395280" y="2708280"/>
            <a:ext cx="1943280" cy="1942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>
            <a:off x="179280" y="1125360"/>
            <a:ext cx="2232000" cy="15433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0"/>
          <a:stretch/>
        </p:blipFill>
        <p:spPr>
          <a:xfrm>
            <a:off x="2556000" y="2421000"/>
            <a:ext cx="1563480" cy="2181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1"/>
          <a:stretch/>
        </p:blipFill>
        <p:spPr>
          <a:xfrm>
            <a:off x="4859280" y="1197000"/>
            <a:ext cx="1800360" cy="13525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2"/>
          <a:stretch/>
        </p:blipFill>
        <p:spPr>
          <a:xfrm>
            <a:off x="2916360" y="1197000"/>
            <a:ext cx="10825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Arial"/>
              </a:rPr>
              <a:t>Me duele / Me duele</a:t>
            </a:r>
            <a:r>
              <a:rPr b="0" lang="cy-GB" sz="4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64360" y="4653000"/>
            <a:ext cx="1979640" cy="19652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435640" y="4653000"/>
            <a:ext cx="2090520" cy="1801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3132000" y="4365720"/>
            <a:ext cx="2159280" cy="1917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7072200" y="2708280"/>
            <a:ext cx="1695600" cy="19130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5580000" y="2349360"/>
            <a:ext cx="1163880" cy="21099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4140360" y="2421000"/>
            <a:ext cx="1603080" cy="2182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7"/>
          <a:stretch/>
        </p:blipFill>
        <p:spPr>
          <a:xfrm>
            <a:off x="395280" y="2708280"/>
            <a:ext cx="1943280" cy="1942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8"/>
          <a:stretch/>
        </p:blipFill>
        <p:spPr>
          <a:xfrm>
            <a:off x="6732720" y="1197000"/>
            <a:ext cx="1944720" cy="1511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9"/>
          <a:stretch/>
        </p:blipFill>
        <p:spPr>
          <a:xfrm>
            <a:off x="179280" y="1125360"/>
            <a:ext cx="2232000" cy="15433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0"/>
          <a:stretch/>
        </p:blipFill>
        <p:spPr>
          <a:xfrm>
            <a:off x="2556000" y="2421000"/>
            <a:ext cx="1563480" cy="21812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1"/>
          <a:stretch/>
        </p:blipFill>
        <p:spPr>
          <a:xfrm>
            <a:off x="4859280" y="1197000"/>
            <a:ext cx="1800360" cy="13525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2"/>
          <a:stretch/>
        </p:blipFill>
        <p:spPr>
          <a:xfrm>
            <a:off x="2916360" y="1197000"/>
            <a:ext cx="10825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189000"/>
            <a:ext cx="3384360" cy="49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¿Cómo se dice..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My knee hu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My lungs h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3. My heart hu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4. My back hu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5. My ears h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6 My head hu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7. My leg hu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8. My ankle hu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24360" y="620640"/>
            <a:ext cx="403236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 duele la rod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1197000"/>
            <a:ext cx="489564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 duelen los 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ú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24360" y="1773360"/>
            <a:ext cx="403236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 duele el coraz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24360" y="2349360"/>
            <a:ext cx="403236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 duele la espal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24360" y="2924280"/>
            <a:ext cx="403236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 duelen los 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í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24360" y="3500280"/>
            <a:ext cx="403236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 duele la cab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24360" y="4076640"/>
            <a:ext cx="403236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 duele la pi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24360" y="4653000"/>
            <a:ext cx="403236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 duele el tob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cuer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Arial"/>
              </a:rPr>
              <a:t>Me duele / Me duele</a:t>
            </a:r>
            <a:r>
              <a:rPr b="0" lang="cy-GB" sz="4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164360" y="4653000"/>
            <a:ext cx="1979640" cy="19652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435640" y="4653000"/>
            <a:ext cx="2090520" cy="18018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3132000" y="4365720"/>
            <a:ext cx="2159280" cy="19177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395280" y="4797360"/>
            <a:ext cx="2125800" cy="1474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072200" y="2708280"/>
            <a:ext cx="1695600" cy="1913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5580000" y="2349360"/>
            <a:ext cx="1163880" cy="21099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4140360" y="2421000"/>
            <a:ext cx="1603080" cy="21826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8"/>
          <a:stretch/>
        </p:blipFill>
        <p:spPr>
          <a:xfrm>
            <a:off x="395280" y="2708280"/>
            <a:ext cx="1943280" cy="19429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9"/>
          <a:stretch/>
        </p:blipFill>
        <p:spPr>
          <a:xfrm>
            <a:off x="6732720" y="1197000"/>
            <a:ext cx="1944720" cy="15112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0"/>
          <a:stretch/>
        </p:blipFill>
        <p:spPr>
          <a:xfrm>
            <a:off x="179280" y="1125360"/>
            <a:ext cx="2232000" cy="15433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1"/>
          <a:stretch/>
        </p:blipFill>
        <p:spPr>
          <a:xfrm>
            <a:off x="2556000" y="2421000"/>
            <a:ext cx="1563480" cy="21812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2"/>
          <a:stretch/>
        </p:blipFill>
        <p:spPr>
          <a:xfrm>
            <a:off x="4859280" y="1197000"/>
            <a:ext cx="1800360" cy="13525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3"/>
          <a:stretch/>
        </p:blipFill>
        <p:spPr>
          <a:xfrm>
            <a:off x="2916360" y="1197000"/>
            <a:ext cx="10825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58920" y="2276640"/>
            <a:ext cx="6697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i cuer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y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56000" y="450864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400" spc="-1" strike="noStrike">
                <a:solidFill>
                  <a:srgbClr val="000000"/>
                </a:solidFill>
                <a:latin typeface="Comic Sans MS"/>
              </a:rPr>
              <a:t>El coraz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27280" y="1069920"/>
            <a:ext cx="396072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56000" y="450864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400" spc="-1" strike="noStrike">
                <a:solidFill>
                  <a:srgbClr val="000000"/>
                </a:solidFill>
                <a:latin typeface="Comic Sans MS"/>
              </a:rPr>
              <a:t>El h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ídag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27280" y="1162080"/>
            <a:ext cx="432108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56000" y="4508640"/>
            <a:ext cx="45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400" spc="-1" strike="noStrike">
                <a:solidFill>
                  <a:srgbClr val="000000"/>
                </a:solidFill>
                <a:latin typeface="Comic Sans MS"/>
              </a:rPr>
              <a:t>Los p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úlm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348000" y="76500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56000" y="450864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400" spc="-1" strike="noStrike">
                <a:solidFill>
                  <a:srgbClr val="000000"/>
                </a:solidFill>
                <a:latin typeface="Comic Sans MS"/>
              </a:rPr>
              <a:t>La espal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765000"/>
            <a:ext cx="2803320" cy="39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56000" y="450864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400" spc="-1" strike="noStrike">
                <a:solidFill>
                  <a:srgbClr val="000000"/>
                </a:solidFill>
                <a:latin typeface="Comic Sans MS"/>
              </a:rPr>
              <a:t>La pier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348000" y="765000"/>
            <a:ext cx="2871720" cy="39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56000" y="450864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400" spc="-1" strike="noStrike">
                <a:solidFill>
                  <a:srgbClr val="000000"/>
                </a:solidFill>
                <a:latin typeface="Comic Sans MS"/>
              </a:rPr>
              <a:t>El braz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708360" y="1125360"/>
            <a:ext cx="18385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5:31:08Z</dcterms:created>
  <dc:creator>Chris Fuller</dc:creator>
  <dc:description/>
  <dc:language>en-US</dc:language>
  <cp:lastModifiedBy>Owner1</cp:lastModifiedBy>
  <dcterms:modified xsi:type="dcterms:W3CDTF">2008-10-19T13:34:05Z</dcterms:modified>
  <cp:revision>4</cp:revision>
  <dc:subject/>
  <dc:title>Slide 1</dc:title>
</cp:coreProperties>
</file>